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333-73D6-49B9-BB9E-A54F0385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62D-C118-4890-8E5F-85F7F72E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25D-6966-4BB2-A18B-23DA8A61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691-02F7-4C5A-A1FE-66C8A3B2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E926-FDED-4BD1-B242-2B2614E4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50A-540D-4BFA-824E-A3F2FB8D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1027-4110-4A5F-A107-EE4AC43E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8AA-BD9B-4589-9553-9C1DCAC4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460-A62E-4C79-9DE3-257F63FA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78E-739D-4D7C-889F-BFE2DFCB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EB2-7A7A-4FDD-8E00-359D6A76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019-66A3-42F4-A91B-DDD63190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016F-79D6-44E3-89EF-DF82C69D1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990720"/>
            <a:ext cx="830592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33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ego</a:t>
            </a:r>
            <a:endParaRPr b="0" lang="en-US" sz="1800" spc="1" strike="noStrike">
              <a:ln w="12600">
                <a:solidFill>
                  <a:srgbClr val="339966"/>
                </a:solidFill>
                <a:miter/>
              </a:ln>
              <a:solidFill>
                <a:srgbClr val="33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5105520"/>
            <a:ext cx="38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aulo A 22/2/11 per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7724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Christiansen"/>
          <p:cNvPicPr/>
          <p:nvPr/>
        </p:nvPicPr>
        <p:blipFill>
          <a:blip r:embed="rId1"/>
          <a:srcRect l="73869" t="-4324" r="-7297" b="43480"/>
          <a:stretch/>
        </p:blipFill>
        <p:spPr>
          <a:xfrm>
            <a:off x="685800" y="2133720"/>
            <a:ext cx="297180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Christiansen"/>
          <p:cNvPicPr/>
          <p:nvPr/>
        </p:nvPicPr>
        <p:blipFill>
          <a:blip r:embed="rId2"/>
          <a:srcRect l="0" t="-4324" r="63780" b="0"/>
          <a:stretch/>
        </p:blipFill>
        <p:spPr>
          <a:xfrm>
            <a:off x="3962520" y="1676520"/>
            <a:ext cx="320040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0" y="7621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ristain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Monday Feb 2011 http://web.mit.edu/invent/iow/christai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8b04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L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atin Lego means I study or I put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ger of blocks were made 1967 they were called Lego Dup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Legos stared out like wood then plas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y made changes like but batteries in them. They but the batteries on the bot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any has sold Legos in 130 countries with sales of more than 1.5 million doll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cc3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Ole Kirk Christa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1891 in Firskov Denmark, small vill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ansen had a son named Godfred Kirk Chrisata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his own business in Birland in 193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8 Christanses died and his son took o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son died and Ole grandson later took ov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34:15Z</dcterms:created>
  <dc:creator>install</dc:creator>
  <dc:description/>
  <dc:language>en-US</dc:language>
  <cp:lastModifiedBy>install</cp:lastModifiedBy>
  <dcterms:modified xsi:type="dcterms:W3CDTF">2011-03-11T18:31:28Z</dcterms:modified>
  <cp:revision>11</cp:revision>
  <dc:subject/>
  <dc:title>Slide 1</dc:title>
</cp:coreProperties>
</file>